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CAB-28DB-401E-8B0A-030342E0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FF6-C433-4A01-8AA8-A003DD7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BCA-FD0B-4B4A-83CB-50B98BDE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F82-17FA-48B3-87EC-4454FCBC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E0E-5941-49F0-90E0-F2B21561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4E9-3113-49E5-BE25-D7204319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502-6942-4655-BB7E-7F053C7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D03-3261-4034-86FB-CE260AA9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CDB-1A7D-41DE-AEB6-1EC09EF4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6D6-E2D3-49AD-A690-2E2EBA3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041-39BE-401B-B7AB-51B54188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FD4-AEAD-4EFD-9AD8-12040C9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ECE-2008-46B2-A1D1-3867378F14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English F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9564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de By ZYB HL L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2030400"/>
            <a:ext cx="6696000" cy="482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ercules and the Wagon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 waggoner was once driving a heavy load on a very muddy road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775640" cy="5604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uddenly the wheels of the wagon sank into the mire, and the horse could not pull them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he waggoner threw down his whip. He knelt down and prayed to Hercules. "Hercules, help me,please," he said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But Hercules appeared to him, and said, "Man, don't kneel there. Get up and put your shoulder to the wheel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t‘s said that when we have troubles,we can’t only expect others’ help ,we should get out of the trouble by ourselve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19280" y="2349360"/>
            <a:ext cx="532908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s for watching</a:t>
            </a: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3:59:31Z</dcterms:created>
  <dc:creator>雨林木风</dc:creator>
  <dc:description/>
  <dc:language>en-US</dc:language>
  <cp:lastModifiedBy>雨林木风</cp:lastModifiedBy>
  <dcterms:modified xsi:type="dcterms:W3CDTF">2010-11-28T04:28:37Z</dcterms:modified>
  <cp:revision>4</cp:revision>
  <dc:subject/>
  <dc:title>English Fable</dc:title>
</cp:coreProperties>
</file>